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78402-DE5F-4E11-B94A-3A19B1AA6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2620-2B40-4CE3-8D57-831B85C23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C70B-0E05-4100-8A16-BB3042601C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E54B-AA56-4711-9739-6C5B05004F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4651-B6C4-483F-88C6-D4E064B6B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DFA1-EACE-4435-953E-1A33B271E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5DE7-FF2C-4578-BB72-740C34741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C5ED-4F32-452B-9C10-04411A8E2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87AB8-31E2-4B7E-A9F1-309A1D6F7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F9DC-3E41-4E73-AE64-AE2B5B207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ADD7-6C09-49B3-A472-AECC52960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F0CD-295C-4258-BF2A-59E8B7FCB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C0F3-008F-4694-9A7C-4234BC9AB3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438280" y="1293840"/>
            <a:ext cx="4038840" cy="524988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304920" y="227160"/>
            <a:ext cx="854712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Rounded MT Bold"/>
                <a:ea typeface="Arial Rounded MT Bold"/>
              </a:rPr>
              <a:t>Wir können mal nach Deutschland fah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086600" y="4800600"/>
            <a:ext cx="17654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el Schu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tz Tho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ustav R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49360" y="78739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Landgasthof Ratz ist wo wir blieben für drei Nach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240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st nicht teuer (€60 euro/nacht. €180 Tot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frei morgen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gut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467160" y="1854360"/>
            <a:ext cx="55879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15B4-3E3A-40C9-8436-6D40B20394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69440"/>
            <a:ext cx="8229600" cy="6388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xel, Fritz, und Gustav habt €3000 je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t es €4235.58 für Flugzeug no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0 für die Chauffer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 fur Activität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€1860 für die Hot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gibt uns €2529.42 in das e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4D99-A96B-4D04-B57C-E3A8C2CF2D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79800" y="4011480"/>
            <a:ext cx="4081320" cy="27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4BBF-553C-41B4-B7CA-1651647119F9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38479" r="0" b="15831"/>
          <a:stretch/>
        </p:blipFill>
        <p:spPr>
          <a:xfrm>
            <a:off x="304920" y="1905120"/>
            <a:ext cx="85341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116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fahren nach Baden-Baden von Chicago. Es kostet €1411.86 für jeder uns. Eine Total von €4235.58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122" t="12636" r="0" b="25571"/>
          <a:stretch/>
        </p:blipFill>
        <p:spPr>
          <a:xfrm>
            <a:off x="1143000" y="2362320"/>
            <a:ext cx="6705720" cy="335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 gehen nach Baden-Baden, dann Rheinau, und danach zu Rheinmünster mit einer Privat Chauffer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6800" y="6095880"/>
            <a:ext cx="8140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 kostet €35, dann €100, danach €120, and dann €75 für eine Total von €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480" y="1486080"/>
            <a:ext cx="8896320" cy="4533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15920" y="2425680"/>
            <a:ext cx="4394160" cy="287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51"/>
                </a:moveTo>
                <a:lnTo>
                  <a:pt x="21600" y="0"/>
                </a:lnTo>
                <a:lnTo>
                  <a:pt x="20976" y="0"/>
                </a:lnTo>
                <a:lnTo>
                  <a:pt x="20414" y="1720"/>
                </a:lnTo>
                <a:lnTo>
                  <a:pt x="16169" y="5926"/>
                </a:lnTo>
                <a:lnTo>
                  <a:pt x="15357" y="6499"/>
                </a:lnTo>
                <a:lnTo>
                  <a:pt x="11549" y="3058"/>
                </a:lnTo>
                <a:lnTo>
                  <a:pt x="9489" y="3823"/>
                </a:lnTo>
                <a:lnTo>
                  <a:pt x="8116" y="3345"/>
                </a:lnTo>
                <a:lnTo>
                  <a:pt x="5182" y="6499"/>
                </a:lnTo>
                <a:lnTo>
                  <a:pt x="2934" y="11469"/>
                </a:lnTo>
                <a:lnTo>
                  <a:pt x="2809" y="14145"/>
                </a:lnTo>
                <a:lnTo>
                  <a:pt x="1935" y="14719"/>
                </a:lnTo>
                <a:lnTo>
                  <a:pt x="187" y="17012"/>
                </a:lnTo>
                <a:lnTo>
                  <a:pt x="0" y="17681"/>
                </a:lnTo>
                <a:lnTo>
                  <a:pt x="2372" y="19593"/>
                </a:lnTo>
                <a:lnTo>
                  <a:pt x="5182" y="20071"/>
                </a:lnTo>
                <a:lnTo>
                  <a:pt x="7741" y="21600"/>
                </a:lnTo>
                <a:lnTo>
                  <a:pt x="9114" y="20740"/>
                </a:lnTo>
                <a:lnTo>
                  <a:pt x="9489" y="21600"/>
                </a:lnTo>
                <a:lnTo>
                  <a:pt x="11674" y="16726"/>
                </a:lnTo>
                <a:lnTo>
                  <a:pt x="11861" y="14719"/>
                </a:lnTo>
                <a:lnTo>
                  <a:pt x="12985" y="12329"/>
                </a:lnTo>
                <a:lnTo>
                  <a:pt x="13172" y="10418"/>
                </a:lnTo>
                <a:lnTo>
                  <a:pt x="14296" y="8793"/>
                </a:lnTo>
                <a:lnTo>
                  <a:pt x="14608" y="7264"/>
                </a:lnTo>
                <a:lnTo>
                  <a:pt x="19103" y="3536"/>
                </a:lnTo>
                <a:lnTo>
                  <a:pt x="21350" y="2007"/>
                </a:lnTo>
                <a:lnTo>
                  <a:pt x="21600" y="1051"/>
                </a:lnTo>
                <a:close/>
                <a:moveTo>
                  <a:pt x="21600" y="1051"/>
                </a:moveTo>
              </a:path>
            </a:pathLst>
          </a:custGeom>
          <a:noFill/>
          <a:ln w="63360">
            <a:solidFill>
              <a:srgbClr val="f3eb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38354-5197-4EBC-83BB-316DAEEEFE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178920"/>
            <a:ext cx="8597880" cy="1360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r gehen nach Baden-Bad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533160"/>
            <a:ext cx="2336760" cy="6337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te wir strollen durch die Lichtentaler Allee Park. Es ist fr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 wir besuchen die Burg Hohenbaden, ein alt Schloss für €5 j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ach wir besuchen die Museum Frieder Burda für €5 je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n wir sehen Mummelsee. Es kostet ni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letzt wir besuchn die Trinkhalle fur €5 je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71880" y="1604880"/>
            <a:ext cx="6959520" cy="525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4532-0658-4577-9712-CE05813E6D7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62240" y="7327800"/>
            <a:ext cx="5238720" cy="3495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286000" y="6896160"/>
            <a:ext cx="5238720" cy="3495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9440" cy="52833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36720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 Baden-Baden, wir blieben in die Atlantic Parkhotel für €240 von Nacht. Wir haben sieben Tage ins das Hotel, so es kostet €1680 To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48040" y="1612800"/>
            <a:ext cx="5238720" cy="3495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27400" y="5181480"/>
            <a:ext cx="48643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s Hotel habt ein Park, einen Restaurant, und zwei Bette mit ein Sof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55BA-5402-420E-BE4C-58F34E8938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36960" y="1193760"/>
            <a:ext cx="5194440" cy="4470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92200" y="294840"/>
            <a:ext cx="37465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einmün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41200"/>
            <a:ext cx="3746520" cy="6616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 wir können zu </a:t>
            </a:r>
            <a:r>
              <a:rPr b="0" lang="en-US" sz="2400" spc="-1" strike="noStrike">
                <a:solidFill>
                  <a:srgbClr val="262626"/>
                </a:solidFill>
                <a:latin typeface="Arial"/>
              </a:rPr>
              <a:t>Frankreich und ba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n wir können zu der Schwarzwald fah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ach wir Wakeboarden in die Rhein mit Axel’s freund’s Bo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n wir besuchen die kirche “Sts Peter und Pau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letzt wir haben Abendessen mit Axel’s freund’s Famil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88E6-ACF0-4BFE-98A5-8FA55AA70B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14880" y="10414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 bleiben in Axel’s freund’s Haus für drei Nach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77960" cy="4152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9000"/>
          </a:bodyPr>
          <a:p>
            <a:pPr marL="37872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aus habt Solar Pan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ein Zimmer für alle 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 es ist fre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B073-BFA6-4A5F-AF17-4834DCBCE8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3803-593C-4F66-A5AE-7CC1466A82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683160" y="2158920"/>
            <a:ext cx="5248080" cy="34927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letzt wir besuchen Rheina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9844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besuchen die European Parliament Building dass ist in der na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zu die European Court of Human Rights Building dass ist sehr in der na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zu die Tomi Ungere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Oper besucht wir für ein t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int Thomas Kirche besuchen wir zulet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ADB81-D54C-460C-8FFB-3C39592D249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USD220</dc:creator>
  <dc:description/>
  <dc:language>en-US</dc:language>
  <cp:lastModifiedBy/>
  <cp:revision>0</cp:revision>
  <dc:subject/>
  <dc:title>Slide 1</dc:title>
</cp:coreProperties>
</file>